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6C2-3FD3-45B2-B48A-AEE3BFD7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61E-6D89-4246-877E-D32F937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208-D379-4056-BABC-D3AB78A3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C34-6ACA-4FA4-9CCE-B5634DD5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B70-1B01-457E-9C71-ED451AA9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A86-9707-49F1-8B34-E8F61BDD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F4F-42A7-408E-8BF7-9EEBB2F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6DD-1394-4D33-83DE-1AD7A81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14F-4BC3-422E-8293-0D55276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A38-4079-4D39-927C-CD9B1F5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3E5-3BB0-43BF-878B-D68D471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216-A41B-4231-973A-520A2DC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C55-8C74-4215-BCA0-FAEE834CF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vhermine.de/bigger3a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03880" y="194616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371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all been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4800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nal 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295416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so02963_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2239920" cy="18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_goyle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19920" y="914400"/>
            <a:ext cx="3774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avie"/>
              </a:rPr>
              <a:t>Joshua Herd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vie"/>
              </a:rPr>
              <a:t>(Gregory Goy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igger3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838080"/>
            <a:ext cx="5580000" cy="344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8800" y="4952880"/>
            <a:ext cx="571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Sean Biggersta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vie"/>
              </a:rPr>
              <a:t>(Oliver Wo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lin" descr=""/>
          <p:cNvPicPr/>
          <p:nvPr/>
        </p:nvPicPr>
        <p:blipFill>
          <a:blip r:embed="rId1"/>
          <a:stretch/>
        </p:blipFill>
        <p:spPr>
          <a:xfrm>
            <a:off x="2279520" y="1905120"/>
            <a:ext cx="4575240" cy="467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15800" y="304920"/>
            <a:ext cx="351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Hugh Mitch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vie"/>
              </a:rPr>
              <a:t>(Colin Creev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143000"/>
            <a:ext cx="8915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And now she’s down to the      last two…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Rupert and Dani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124080" y="4038480"/>
          <a:ext cx="23338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38480"/>
                    <a:ext cx="23338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71600" y="533520"/>
            <a:ext cx="6105600" cy="33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 Bachelorett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038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Who will be h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achel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Find out in the special 2-hour season finale of the Bachelorette.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4343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Premieres Thursday at 8/7 central on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Ravie"/>
              </a:rPr>
              <a:t>She started with</a:t>
            </a:r>
            <a:r>
              <a:rPr b="1" lang="en-US" sz="7200" spc="-1" strike="noStrike">
                <a:solidFill>
                  <a:srgbClr val="000000"/>
                </a:solidFill>
                <a:latin typeface="Ravie"/>
              </a:rPr>
              <a:t> 10 gu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adcliffe1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218120" cy="371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5257800"/>
            <a:ext cx="6629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Daniel Radclif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(Harry 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mber_prem2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451320" cy="5211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7160" y="195264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2080" y="1752480"/>
            <a:ext cx="28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Rupert Gr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(Ronald Wea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mber_prem9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914560" cy="521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26560" y="1523880"/>
            <a:ext cx="28598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Tom Fel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(Draco Malfo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harrymelling2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47242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avie"/>
              </a:rPr>
              <a:t>Harry M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(Dudley Dur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4648320"/>
            <a:ext cx="876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avie"/>
              </a:rPr>
              <a:t>Matthew Lew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avie"/>
              </a:rPr>
              <a:t>(Neville Longbotto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tthewlewis" descr=""/>
          <p:cNvPicPr/>
          <p:nvPr/>
        </p:nvPicPr>
        <p:blipFill>
          <a:blip r:embed="rId1"/>
          <a:stretch/>
        </p:blipFill>
        <p:spPr>
          <a:xfrm>
            <a:off x="3048120" y="533520"/>
            <a:ext cx="2882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00200" y="914400"/>
            <a:ext cx="6172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Devon Mu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(Seamus Finniga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evonmurray9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648320" cy="342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_crabbe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3520" y="434340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vie"/>
              </a:rPr>
              <a:t>Jamie Wayle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(Vincent Crabb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4:23:37Z</dcterms:created>
  <dc:creator>Preferred Customer</dc:creator>
  <dc:description/>
  <dc:language>en-US</dc:language>
  <cp:lastModifiedBy>Preferred Customer</cp:lastModifiedBy>
  <dcterms:modified xsi:type="dcterms:W3CDTF">2003-09-20T15:59:42Z</dcterms:modified>
  <cp:revision>1</cp:revision>
  <dc:subject/>
  <dc:title>PowerPoint Presentation</dc:title>
</cp:coreProperties>
</file>